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D40-C801-44CC-B743-9AB69E85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FE1-0FAE-40A7-A09B-F5923DB7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4CE-0375-49A5-A9DD-F47A1BB2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8FD-AE96-41A8-BA4C-C71583A8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1EF-31A5-4B0C-B850-0973F573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053-A788-4A51-9A17-8FB92BAA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D9A-0DFD-4AD3-88E2-D0E5B7FB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E02-DDAA-4DA6-A23B-D4ED8C7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1FE-6F47-4073-9121-C02B80CD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408-ED9F-486D-9C91-C66E68E8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318-F270-448F-BA70-E851B524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701-947B-4E29-B233-850C5C0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F732-7A0D-4B12-A57C-70DF4F45742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48BE-C041-4F84-9C5A-EFFCCB34C2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f497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3" name="Freeform 4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TRIUMPH OF WHITE MEN’S DEMOCRA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 Q. Adams-National Republic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1825-182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es in under a cloud of distrust because of the “corrupt bargai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d “American Syste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replace cabinet members (many are Jacksonia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d-term election of 1826 gave Jackson forces control of Congress making Adams presidency a living h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gned into law “Tariff of Abomination of 1828” (main issue of presidenc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of what he did as a Secretary of State, he did not have many foreig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otiations with acquiring Texas territory with Mexico fai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DIVI7233194"/>
          <p:cNvPicPr/>
          <p:nvPr/>
        </p:nvPicPr>
        <p:blipFill>
          <a:blip r:embed="rId2"/>
          <a:stretch/>
        </p:blipFill>
        <p:spPr>
          <a:xfrm>
            <a:off x="1752480" y="609480"/>
            <a:ext cx="5594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DIVI7233TB1002"/>
          <p:cNvPicPr/>
          <p:nvPr/>
        </p:nvPicPr>
        <p:blipFill>
          <a:blip r:embed="rId2"/>
          <a:srcRect l="0" t="13228" r="0" b="0"/>
          <a:stretch/>
        </p:blipFill>
        <p:spPr>
          <a:xfrm>
            <a:off x="457200" y="2133720"/>
            <a:ext cx="8229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do you have a stronger affiliation with, Illinois or the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rew Jackson-Democratic (1829-183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22096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Jacksonians won by portraying Jackson as authentic man of the people (military hero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sserts political power by Defending “spoils system” and Peggy Eaton affai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dian Removal Act 1830/Trail of Tears 1838 (Worcester v. Georgi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ullification Crisis toward the Tariff of Abomin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Bank War/Veto becomes a symbolic defense of Jacksonian concept of dem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gress censures Jackson for role in bank war (later expunge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eign affairs were not a prominent concern of Jackson's admin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as declares Independence (1836) from Mexico but Jackson prudently declined to endorse American annexation of Texas or even to recognize the new republic without prior congressiona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an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DIVI7233198"/>
          <p:cNvPicPr/>
          <p:nvPr/>
        </p:nvPicPr>
        <p:blipFill>
          <a:blip r:embed="rId2"/>
          <a:stretch/>
        </p:blipFill>
        <p:spPr>
          <a:xfrm>
            <a:off x="1523880" y="1600200"/>
            <a:ext cx="5943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50,000 of these throughout the yea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rthquak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country is the smallest in the world at only .02 miles wid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tican C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% of Americans don't know the first 9 words of thi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erican anthe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h say can you see by the dawn's early ligh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 states adopted universal white male suffrage by the 1820s (political participation promoted by Jacksonian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appointed offices made electi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anges in the method of nominating and electing the presid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ucus for nomine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oral College changes (popular vo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fessional politicians and statewide party organizations emer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two-party system created (Whig v. Democra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gs defended activist government in economics, the enforcement of “decency”, and supported the American Syste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mocrats opposed government regulation in economy and mor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conomic gap widened between propertied and labor classes; this was overlooked because legal equality of all white men still radical by European standa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tical activity and debate around economic issues foreshadowed rise of parties based around economic program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bate over role of federal government in the econom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iffs-who did it effect negatively and who did it effect positive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Bank-who benefited from it (concentrated power in the hands of wealth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s emerging between regions around the country (North v. South v. We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llification foreshadowed state sovereignty positions of the South in slavery deb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expansion out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specul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ve Ame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of new states and terri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alitarian expectations despite growing economic inequality (labor mov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distinctive domestic serva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lass distinctions in 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r press was the source of information and opi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sts, Sculpture, Writers, appealed to an audience of broad citizenry of democracy, not refined el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’s Weird?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time you lick a stamp, you're consuming 1/10 of a calor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cient Egypt, Priests plucked every hair from their bodies, including their eyebrows and eyelash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verage human body contains enough fat to make seven bars of soa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liding lizard getting ready to f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405457.jpeg"/>
          <p:cNvPicPr/>
          <p:nvPr/>
        </p:nvPicPr>
        <p:blipFill>
          <a:blip r:embed="rId2"/>
          <a:srcRect l="-86372" t="0" r="-8637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rab that likes to blend into the be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405453.jpeg"/>
          <p:cNvPicPr/>
          <p:nvPr/>
        </p:nvPicPr>
        <p:blipFill>
          <a:blip r:embed="rId2"/>
          <a:srcRect l="-40912" t="0" r="-4091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pider who likes to be a bul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405454.jpeg"/>
          <p:cNvPicPr/>
          <p:nvPr/>
        </p:nvPicPr>
        <p:blipFill>
          <a:blip r:embed="rId2"/>
          <a:srcRect l="-18184" t="0" r="-1818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rog that likes to hide in the s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405455.jpeg"/>
          <p:cNvPicPr/>
          <p:nvPr/>
        </p:nvPicPr>
        <p:blipFill>
          <a:blip r:embed="rId2"/>
          <a:srcRect l="-25144" t="0" r="-2514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ird among the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405458.jpeg"/>
          <p:cNvPicPr/>
          <p:nvPr/>
        </p:nvPicPr>
        <p:blipFill>
          <a:blip r:embed="rId2"/>
          <a:srcRect l="-8359" t="0" r="-835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recall a recent Politician whose personality played a major role in his/her popularity and what it was that the public found so appeal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DIVI7233TB1001"/>
          <p:cNvPicPr/>
          <p:nvPr/>
        </p:nvPicPr>
        <p:blipFill>
          <a:blip r:embed="rId2"/>
          <a:srcRect l="0" t="13805" r="0" b="0"/>
          <a:stretch/>
        </p:blipFill>
        <p:spPr>
          <a:xfrm>
            <a:off x="533520" y="2443320"/>
            <a:ext cx="80769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5:09:35Z</dcterms:created>
  <dc:creator>CMU</dc:creator>
  <dc:description/>
  <cp:keywords/>
  <dc:language>en-US</dc:language>
  <cp:lastModifiedBy>Buffalo Grive High School</cp:lastModifiedBy>
  <cp:lastPrinted>2009-09-06T19:32:19Z</cp:lastPrinted>
  <dcterms:modified xsi:type="dcterms:W3CDTF">2012-10-12T18:40:00Z</dcterms:modified>
  <cp:revision>49</cp:revision>
  <dc:subject/>
  <dc:title>CHAPTER 10 THE TRIUMPH OF WHITE MEN'S DEMOCRACY</dc:title>
</cp:coreProperties>
</file>